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1D0-030D-47AC-AD2B-3A5CC2B1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9BC-A8CB-4A6D-BE25-A949E56E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65E-B686-4830-A064-3772D1CA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045-049E-4A10-9F13-A36D57A0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A93-BDD7-4B51-B070-6F406A1D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853-CD39-4F75-9FD5-4087CC7D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8A5-CE12-48F5-89E5-309F39D4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F99-4F84-4158-9C9E-E9915632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D26-B056-45EB-86CA-0A2A53C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365-ECFE-4824-867C-14F5EC0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292-A033-45AE-91F4-DB68E88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E11-3355-4E32-BE8B-5520208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0A7C-B6FA-404D-B442-93E7287B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Shrinking Arctic 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By: Alexandria Carbon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1771920" cy="258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152280" y="5029200"/>
            <a:ext cx="2124360" cy="159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2895480" y="304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5"/>
          <a:stretch/>
        </p:blipFill>
        <p:spPr>
          <a:xfrm>
            <a:off x="6095880" y="38088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6"/>
          <a:stretch/>
        </p:blipFill>
        <p:spPr>
          <a:xfrm>
            <a:off x="5943600" y="5105520"/>
            <a:ext cx="2238480" cy="1504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7"/>
          <a:stretch/>
        </p:blipFill>
        <p:spPr>
          <a:xfrm>
            <a:off x="7162920" y="251460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8"/>
          <a:stretch/>
        </p:blipFill>
        <p:spPr>
          <a:xfrm>
            <a:off x="3048120" y="4648320"/>
            <a:ext cx="22572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ild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sea-ice breakup prematurely separates ringed and harp seal mothers from their pups before the pups are big enough to surv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birds that forage near glaciers and sea ice are losing their feeding grounds and resting places, while thawing permafrost threatens to drain their wetland breeding habit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ean water is changing, turning more acidic from the CO2 int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ctic Ocean is becoming corrosive to shell-building creatures like plankton and clams more quickly than temperate wa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ine ecosystems could collapse as we know them by 2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To C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long Arctic coastlines, entire villages will be uprooted because they're in danger of being swam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warming will be increased and sped up (no more cooling blank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 levels will rise all over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patterns and food production all over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495680" y="5638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9F5DbzRS5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much cheaper non-fossils ways to create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ew cars that do not use fossil fuels and many other appliances and energ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energy from wind and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ppliances that use les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st is endless. Will you take the challe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Happ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e in the Arctic is shrinking at and alarming 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Arctic space view"/>
          <p:cNvPicPr/>
          <p:nvPr/>
        </p:nvPicPr>
        <p:blipFill>
          <a:blip r:embed="rId1"/>
          <a:stretch/>
        </p:blipFill>
        <p:spPr>
          <a:xfrm>
            <a:off x="2438280" y="2819520"/>
            <a:ext cx="4572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happ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lobal warm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reasing alb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reasing seasonal 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creasing older thicker 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warming has and continues to cause temperature chan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mperatures increase in the arctic, more ice mel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re ice melts, there are more melt ponds in the arc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 ponds have low albedo and therefore are not g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be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218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4648320" y="1547640"/>
            <a:ext cx="4038480" cy="2186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be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amount of solar energy reflected from Earth back into sp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d on a scale of 0-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is lowest (0) on the scale and white would be highest 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ce in the arctic has high albedo and reflects solar energy back into space (cools of the Ear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re more ice, solar light reflects back into space; cooling the Earth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re is les ice and more dark sea or melt ponds, solar energy gets absorbed into the Earth and makes it hotter, melting more ice faster and f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 p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lt p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pools of melted ice and snow that form on the sea ice when it is warmed in spring and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 ponds have low albedo which causes ice to melt even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olar energy is absorbed instead of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6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al 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943360" cy="20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581640" cy="1939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tic has ice that is supposed to be permanent and seasonal ice to protect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ice is created over the thinker permanent ice so when summer comes it melt instead of the thicker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tarting to be more and more seasonal ice and less and less older thicker permanent ice that the arctic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280" y="152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cqjO8rwB-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lting arctic ice is affecting native people, wildlife and pl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Ward Hunt Ice Shelf splintered, the rare freshwater lake it enclosed, along with its unique ecosystem, drained into the oce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 bears, whales, walrus and seals are changing their feeding and migr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make it harder for native people to hunt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ch bark beetles are breading faster in the warmer weather in Ala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2414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izes decrea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 ice platforms moving farther apart and swimming conditions more dangerous (drow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hunting opportunities and increased scarcity of f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you know? Polar bears kill cubs to bring females back in heat like lions; but recently there have been cases of cannibalism spo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4:12:32Z</dcterms:created>
  <dc:creator>SASD</dc:creator>
  <dc:description/>
  <dc:language>en-US</dc:language>
  <cp:lastModifiedBy>PA Department of Education Classrooms for the Future</cp:lastModifiedBy>
  <dcterms:modified xsi:type="dcterms:W3CDTF">2011-02-23T14:13:34Z</dcterms:modified>
  <cp:revision>11</cp:revision>
  <dc:subject/>
  <dc:title>Shrinking Arctic Ices</dc:title>
</cp:coreProperties>
</file>